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5.wmf" ContentType="image/x-wmf"/>
  <Override PartName="/ppt/media/driveby.wav" ContentType="audio/x-wav"/>
  <Override PartName="/ppt/media/image13.wmf" ContentType="image/x-wmf"/>
  <Override PartName="/ppt/media/EXPLODE.WAV" ContentType="audio/x-wav"/>
  <Override PartName="/ppt/media/image14.wmf" ContentType="image/x-wmf"/>
  <Override PartName="/ppt/media/LASER.WAV" ContentType="audio/x-wav"/>
  <Override PartName="/ppt/media/image20.wmf" ContentType="image/x-wmf"/>
  <Override PartName="/ppt/media/image18.wmf" ContentType="image/x-wmf"/>
  <Override PartName="/ppt/media/CHIMES.WAV" ContentType="audio/x-wav"/>
  <Override PartName="/ppt/media/image28.wmf" ContentType="image/x-wmf"/>
  <Override PartName="/ppt/media/CAMERA.WAV" ContentType="audio/x-wav"/>
  <Override PartName="/ppt/media/carbrake.wav" ContentType="audio/x-wav"/>
  <Override PartName="/ppt/media/image1.wmf" ContentType="image/x-wmf"/>
  <Override PartName="/ppt/media/image31.wmf" ContentType="image/x-wmf"/>
  <Override PartName="/ppt/media/image2.wmf" ContentType="image/x-wmf"/>
  <Override PartName="/ppt/media/image32.wmf" ContentType="image/x-wmf"/>
  <Override PartName="/ppt/media/image16.wmf" ContentType="image/x-wmf"/>
  <Override PartName="/ppt/media/image24.wmf" ContentType="image/x-wmf"/>
  <Override PartName="/ppt/media/image25.wmf" ContentType="image/x-wmf"/>
  <Override PartName="/ppt/media/image26.wmf" ContentType="image/x-wmf"/>
  <Override PartName="/ppt/media/image27.wmf" ContentType="image/x-wmf"/>
  <Override PartName="/ppt/media/WHOOSH.WAV" ContentType="audio/x-wav"/>
  <Override PartName="/ppt/media/image29.wmf" ContentType="image/x-wmf"/>
  <Override PartName="/ppt/media/image40.wmf" ContentType="image/x-wmf"/>
  <Override PartName="/ppt/media/image44.gif" ContentType="image/gif"/>
  <Override PartName="/ppt/media/image41.wmf" ContentType="image/x-wmf"/>
  <Override PartName="/ppt/media/image30.wmf" ContentType="image/x-wmf"/>
  <Override PartName="/ppt/media/image42.wmf" ContentType="image/x-wmf"/>
  <Override PartName="/ppt/media/image43.wmf" ContentType="image/x-wmf"/>
  <Override PartName="/ppt/media/image39.wmf" ContentType="image/x-wmf"/>
  <Override PartName="/ppt/media/image9.wmf" ContentType="image/x-wmf"/>
  <Override PartName="/ppt/media/image4.wmf" ContentType="image/x-wmf"/>
  <Override PartName="/ppt/media/image34.wmf" ContentType="image/x-wmf"/>
  <Override PartName="/ppt/media/image38.wmf" ContentType="image/x-wmf"/>
  <Override PartName="/ppt/media/image8.wmf" ContentType="image/x-wmf"/>
  <Override PartName="/ppt/media/image3.wmf" ContentType="image/x-wmf"/>
  <Override PartName="/ppt/media/image33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8EC8-F34A-44E1-A6F0-F7624FE4E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095A-21D1-4C0E-9A5B-EBD2A2034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223C-5E1B-479F-A196-A3AE8B5F4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1C71-8059-4725-85BC-86D9EE99F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424F-4D2E-47EA-B3B2-69F8BC6F1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A9E7-55A1-4177-A7C3-FCDEA9324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D9CC-308C-4177-AD2A-1F0194169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E8DB-624D-4D88-A743-BA8FBD14F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3AFB-614A-4926-BF08-CFD38DF1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A56C-09FB-4285-AE06-E874F749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F19C-EF4E-414B-A755-83FE6C08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82AA-8FDA-4E8E-86A8-46DF7BAE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0F673-DA70-4898-96F8-65EEF4466A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0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0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2.wmf"/><Relationship Id="rId31" Type="http://schemas.openxmlformats.org/officeDocument/2006/relationships/audio" Target="../media/WHOOSH.WAV"/><Relationship Id="rId32" Type="http://schemas.openxmlformats.org/officeDocument/2006/relationships/audio" Target="../media/CHIMES.WAV"/><Relationship Id="rId33" Type="http://schemas.openxmlformats.org/officeDocument/2006/relationships/audio" Target="../media/CAMERA.WAV"/><Relationship Id="rId34" Type="http://schemas.openxmlformats.org/officeDocument/2006/relationships/audio" Target="../media/LASER.WAV"/><Relationship Id="rId35" Type="http://schemas.openxmlformats.org/officeDocument/2006/relationships/audio" Target="../media/LASER.WAV"/><Relationship Id="rId36" Type="http://schemas.openxmlformats.org/officeDocument/2006/relationships/audio" Target="../media/driveby.wav"/><Relationship Id="rId37" Type="http://schemas.openxmlformats.org/officeDocument/2006/relationships/audio" Target="../media/EXPLODE.WAV"/><Relationship Id="rId38" Type="http://schemas.openxmlformats.org/officeDocument/2006/relationships/audio" Target="../media/EXPLODE.WAV"/><Relationship Id="rId39" Type="http://schemas.openxmlformats.org/officeDocument/2006/relationships/audio" Target="../media/CAMERA.WAV"/><Relationship Id="rId40" Type="http://schemas.openxmlformats.org/officeDocument/2006/relationships/audio" Target="../media/LASER.WAV"/><Relationship Id="rId41" Type="http://schemas.openxmlformats.org/officeDocument/2006/relationships/audio" Target="../media/LASER.WAV"/><Relationship Id="rId42" Type="http://schemas.openxmlformats.org/officeDocument/2006/relationships/audio" Target="../media/driveby.wav"/><Relationship Id="rId43" Type="http://schemas.openxmlformats.org/officeDocument/2006/relationships/audio" Target="../media/EXPLODE.WAV"/><Relationship Id="rId44" Type="http://schemas.openxmlformats.org/officeDocument/2006/relationships/audio" Target="../media/EXPLODE.WAV"/><Relationship Id="rId45" Type="http://schemas.openxmlformats.org/officeDocument/2006/relationships/audio" Target="../media/CAMERA.WAV"/><Relationship Id="rId46" Type="http://schemas.openxmlformats.org/officeDocument/2006/relationships/audio" Target="../media/LASER.WAV"/><Relationship Id="rId47" Type="http://schemas.openxmlformats.org/officeDocument/2006/relationships/audio" Target="../media/LASER.WAV"/><Relationship Id="rId48" Type="http://schemas.openxmlformats.org/officeDocument/2006/relationships/audio" Target="../media/driveby.wav"/><Relationship Id="rId49" Type="http://schemas.openxmlformats.org/officeDocument/2006/relationships/audio" Target="../media/EXPLODE.WAV"/><Relationship Id="rId50" Type="http://schemas.openxmlformats.org/officeDocument/2006/relationships/audio" Target="../media/EXPLODE.WAV"/><Relationship Id="rId5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3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2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4.wmf"/><Relationship Id="rId31" Type="http://schemas.openxmlformats.org/officeDocument/2006/relationships/audio" Target="../media/CAMERA.WAV"/><Relationship Id="rId32" Type="http://schemas.openxmlformats.org/officeDocument/2006/relationships/audio" Target="../media/LASER.WAV"/><Relationship Id="rId33" Type="http://schemas.openxmlformats.org/officeDocument/2006/relationships/audio" Target="../media/LASER.WAV"/><Relationship Id="rId34" Type="http://schemas.openxmlformats.org/officeDocument/2006/relationships/audio" Target="../media/driveby.wav"/><Relationship Id="rId35" Type="http://schemas.openxmlformats.org/officeDocument/2006/relationships/audio" Target="../media/EXPLODE.WAV"/><Relationship Id="rId36" Type="http://schemas.openxmlformats.org/officeDocument/2006/relationships/audio" Target="../media/EXPLODE.WAV"/><Relationship Id="rId37" Type="http://schemas.openxmlformats.org/officeDocument/2006/relationships/audio" Target="../media/CAMERA.WAV"/><Relationship Id="rId38" Type="http://schemas.openxmlformats.org/officeDocument/2006/relationships/audio" Target="../media/LASER.WAV"/><Relationship Id="rId39" Type="http://schemas.openxmlformats.org/officeDocument/2006/relationships/audio" Target="../media/LASER.WAV"/><Relationship Id="rId40" Type="http://schemas.openxmlformats.org/officeDocument/2006/relationships/audio" Target="../media/driveby.wav"/><Relationship Id="rId41" Type="http://schemas.openxmlformats.org/officeDocument/2006/relationships/audio" Target="../media/EXPLODE.WAV"/><Relationship Id="rId42" Type="http://schemas.openxmlformats.org/officeDocument/2006/relationships/audio" Target="../media/EXPLODE.WAV"/><Relationship Id="rId43" Type="http://schemas.openxmlformats.org/officeDocument/2006/relationships/audio" Target="../media/CAMERA.WAV"/><Relationship Id="rId44" Type="http://schemas.openxmlformats.org/officeDocument/2006/relationships/audio" Target="../media/LASER.WAV"/><Relationship Id="rId45" Type="http://schemas.openxmlformats.org/officeDocument/2006/relationships/audio" Target="../media/LASER.WAV"/><Relationship Id="rId46" Type="http://schemas.openxmlformats.org/officeDocument/2006/relationships/audio" Target="../media/driveby.wav"/><Relationship Id="rId47" Type="http://schemas.openxmlformats.org/officeDocument/2006/relationships/audio" Target="../media/EXPLODE.WAV"/><Relationship Id="rId48" Type="http://schemas.openxmlformats.org/officeDocument/2006/relationships/audio" Target="../media/EXPLODE.WAV"/><Relationship Id="rId4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4.wmf"/><Relationship Id="rId29" Type="http://schemas.openxmlformats.org/officeDocument/2006/relationships/audio" Target="../media/CAMERA.WAV"/><Relationship Id="rId30" Type="http://schemas.openxmlformats.org/officeDocument/2006/relationships/audio" Target="../media/LASER.WAV"/><Relationship Id="rId31" Type="http://schemas.openxmlformats.org/officeDocument/2006/relationships/audio" Target="../media/LASER.WAV"/><Relationship Id="rId32" Type="http://schemas.openxmlformats.org/officeDocument/2006/relationships/audio" Target="../media/driveby.wav"/><Relationship Id="rId33" Type="http://schemas.openxmlformats.org/officeDocument/2006/relationships/audio" Target="../media/EXPLODE.WAV"/><Relationship Id="rId34" Type="http://schemas.openxmlformats.org/officeDocument/2006/relationships/audio" Target="../media/EXPLODE.WAV"/><Relationship Id="rId35" Type="http://schemas.openxmlformats.org/officeDocument/2006/relationships/audio" Target="../media/CAMERA.WAV"/><Relationship Id="rId36" Type="http://schemas.openxmlformats.org/officeDocument/2006/relationships/audio" Target="../media/LASER.WAV"/><Relationship Id="rId37" Type="http://schemas.openxmlformats.org/officeDocument/2006/relationships/audio" Target="../media/LASER.WAV"/><Relationship Id="rId38" Type="http://schemas.openxmlformats.org/officeDocument/2006/relationships/audio" Target="../media/driveby.wav"/><Relationship Id="rId39" Type="http://schemas.openxmlformats.org/officeDocument/2006/relationships/audio" Target="../media/EXPLODE.WAV"/><Relationship Id="rId40" Type="http://schemas.openxmlformats.org/officeDocument/2006/relationships/audio" Target="../media/EXPLODE.WAV"/><Relationship Id="rId41" Type="http://schemas.openxmlformats.org/officeDocument/2006/relationships/audio" Target="../media/CAMERA.WAV"/><Relationship Id="rId42" Type="http://schemas.openxmlformats.org/officeDocument/2006/relationships/audio" Target="../media/LASER.WAV"/><Relationship Id="rId43" Type="http://schemas.openxmlformats.org/officeDocument/2006/relationships/audio" Target="../media/LASER.WAV"/><Relationship Id="rId44" Type="http://schemas.openxmlformats.org/officeDocument/2006/relationships/audio" Target="../media/driveby.wav"/><Relationship Id="rId45" Type="http://schemas.openxmlformats.org/officeDocument/2006/relationships/audio" Target="../media/EXPLODE.WAV"/><Relationship Id="rId46" Type="http://schemas.openxmlformats.org/officeDocument/2006/relationships/audio" Target="../media/EXPLODE.WAV"/><Relationship Id="rId4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5.wmf"/><Relationship Id="rId21" Type="http://schemas.openxmlformats.org/officeDocument/2006/relationships/image" Target="../media/image44.gif"/><Relationship Id="rId22" Type="http://schemas.openxmlformats.org/officeDocument/2006/relationships/audio" Target="../media/CHIMES.WAV"/><Relationship Id="rId23" Type="http://schemas.openxmlformats.org/officeDocument/2006/relationships/audio" Target="../media/CHIMES.WAV"/><Relationship Id="rId24" Type="http://schemas.openxmlformats.org/officeDocument/2006/relationships/audio" Target="../media/CAMERA.WAV"/><Relationship Id="rId25" Type="http://schemas.openxmlformats.org/officeDocument/2006/relationships/audio" Target="../media/WHOOSH.WAV"/><Relationship Id="rId26" Type="http://schemas.openxmlformats.org/officeDocument/2006/relationships/audio" Target="../media/WHOOSH.WAV"/><Relationship Id="rId27" Type="http://schemas.openxmlformats.org/officeDocument/2006/relationships/audio" Target="../media/LASER.WAV"/><Relationship Id="rId28" Type="http://schemas.openxmlformats.org/officeDocument/2006/relationships/audio" Target="../media/WHOOSH.WAV"/><Relationship Id="rId29" Type="http://schemas.openxmlformats.org/officeDocument/2006/relationships/audio" Target="../media/LASER.WAV"/><Relationship Id="rId30" Type="http://schemas.openxmlformats.org/officeDocument/2006/relationships/audio" Target="../media/WHOOSH.WAV"/><Relationship Id="rId31" Type="http://schemas.openxmlformats.org/officeDocument/2006/relationships/audio" Target="../media/CAMERA.WAV"/><Relationship Id="rId32" Type="http://schemas.openxmlformats.org/officeDocument/2006/relationships/audio" Target="../media/CAMERA.WAV"/><Relationship Id="rId33" Type="http://schemas.openxmlformats.org/officeDocument/2006/relationships/audio" Target="../media/CAMERA.WAV"/><Relationship Id="rId34" Type="http://schemas.openxmlformats.org/officeDocument/2006/relationships/audio" Target="../media/LASER.WAV"/><Relationship Id="rId35" Type="http://schemas.openxmlformats.org/officeDocument/2006/relationships/audio" Target="../media/LASER.WAV"/><Relationship Id="rId36" Type="http://schemas.openxmlformats.org/officeDocument/2006/relationships/audio" Target="../media/driveby.wav"/><Relationship Id="rId37" Type="http://schemas.openxmlformats.org/officeDocument/2006/relationships/audio" Target="../media/EXPLODE.WAV"/><Relationship Id="rId38" Type="http://schemas.openxmlformats.org/officeDocument/2006/relationships/audio" Target="../media/EXPLODE.WAV"/><Relationship Id="rId39" Type="http://schemas.openxmlformats.org/officeDocument/2006/relationships/audio" Target="../media/carbrake.wav"/><Relationship Id="rId4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olve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04920" y="1295280"/>
          <a:ext cx="2884320" cy="56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95280"/>
                    <a:ext cx="2884320" cy="5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1219320" y="1752480"/>
          <a:ext cx="1089000" cy="6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1752480"/>
                    <a:ext cx="108900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1752480" y="2438280"/>
          <a:ext cx="412920" cy="56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2480" y="2438280"/>
                    <a:ext cx="412920" cy="5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2209680" y="1752480"/>
          <a:ext cx="1089000" cy="61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09680" y="1752480"/>
                    <a:ext cx="108900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143000" y="2362320"/>
            <a:ext cx="220968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057400" y="2362320"/>
          <a:ext cx="1238400" cy="620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57400" y="2362320"/>
                    <a:ext cx="123840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4454640" y="1295280"/>
          <a:ext cx="3120840" cy="567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454640" y="1295280"/>
                    <a:ext cx="3120840" cy="5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5589720" y="1752480"/>
          <a:ext cx="880920" cy="612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589720" y="1752480"/>
                    <a:ext cx="8809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5867280" y="2438280"/>
          <a:ext cx="515880" cy="517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867280" y="2438280"/>
                    <a:ext cx="51588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6781680" y="1752480"/>
          <a:ext cx="881280" cy="612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781680" y="1752480"/>
                    <a:ext cx="88128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5410080" y="2362320"/>
            <a:ext cx="221004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324480" y="2362320"/>
          <a:ext cx="1290600" cy="620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324480" y="2362320"/>
                    <a:ext cx="129060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404640" y="3405240"/>
          <a:ext cx="2837160" cy="6141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04640" y="3405240"/>
                    <a:ext cx="283716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2438280" y="3886200"/>
          <a:ext cx="828720" cy="6127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438280" y="3886200"/>
                    <a:ext cx="8287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1523880" y="4495680"/>
          <a:ext cx="1082880" cy="6732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523880" y="4495680"/>
                    <a:ext cx="108288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762120" y="3886200"/>
          <a:ext cx="828720" cy="6127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762120" y="3886200"/>
                    <a:ext cx="8287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1066680" y="4495680"/>
            <a:ext cx="221004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914400" y="4572000"/>
          <a:ext cx="722160" cy="6206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914400" y="4572000"/>
                    <a:ext cx="7221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olve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04920" y="1295280"/>
          <a:ext cx="3027240" cy="56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95280"/>
                    <a:ext cx="3027240" cy="5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1374840" y="1752480"/>
          <a:ext cx="777960" cy="6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1752480"/>
                    <a:ext cx="7779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1727280" y="2463840"/>
          <a:ext cx="465120" cy="517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27280" y="2463840"/>
                    <a:ext cx="46512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2514600" y="1752480"/>
          <a:ext cx="777960" cy="61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14600" y="1752480"/>
                    <a:ext cx="7779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1143000" y="2362320"/>
            <a:ext cx="220968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057400" y="2362320"/>
          <a:ext cx="1341360" cy="620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57400" y="2362320"/>
                    <a:ext cx="1341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4419720" y="1295280"/>
          <a:ext cx="3546360" cy="614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419720" y="1295280"/>
                    <a:ext cx="354636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5257800" y="1752480"/>
          <a:ext cx="828720" cy="612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257800" y="1752480"/>
                    <a:ext cx="8287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6400800" y="2362320"/>
          <a:ext cx="465120" cy="6728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400800" y="2362320"/>
                    <a:ext cx="465120" cy="67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7086600" y="1752480"/>
          <a:ext cx="828720" cy="612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086600" y="1752480"/>
                    <a:ext cx="8287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5410080" y="2362320"/>
            <a:ext cx="259092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807240" y="2362320"/>
          <a:ext cx="1239840" cy="620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807240" y="2362320"/>
                    <a:ext cx="12398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380880" y="3429000"/>
          <a:ext cx="3214800" cy="5666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80880" y="3429000"/>
                    <a:ext cx="321480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2514600" y="3886200"/>
          <a:ext cx="1190520" cy="6127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514600" y="3886200"/>
                    <a:ext cx="11905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1498680" y="4572000"/>
          <a:ext cx="1133280" cy="5191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498680" y="4572000"/>
                    <a:ext cx="113328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457200" y="3886200"/>
          <a:ext cx="1190520" cy="6127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57200" y="3886200"/>
                    <a:ext cx="11905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762120" y="4495680"/>
            <a:ext cx="289548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762120" y="4495680"/>
          <a:ext cx="825480" cy="6210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762120" y="4495680"/>
                    <a:ext cx="8254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olve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46040" y="1295280"/>
          <a:ext cx="2743200" cy="56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1295280"/>
                    <a:ext cx="2743200" cy="5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838080" y="1752480"/>
          <a:ext cx="828720" cy="6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752480"/>
                    <a:ext cx="8287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1905120" y="2438280"/>
          <a:ext cx="465120" cy="517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5120" y="2438280"/>
                    <a:ext cx="46512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2438280" y="1752480"/>
          <a:ext cx="828720" cy="61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1752480"/>
                    <a:ext cx="8287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1143000" y="2362320"/>
            <a:ext cx="259092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362320" y="2362320"/>
          <a:ext cx="1341360" cy="620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62320" y="2362320"/>
                    <a:ext cx="1341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5130720" y="1295280"/>
          <a:ext cx="2884680" cy="614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130720" y="1295280"/>
                    <a:ext cx="288468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7213680" y="1752480"/>
          <a:ext cx="880920" cy="612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213680" y="1752480"/>
                    <a:ext cx="8809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6248520" y="2286000"/>
          <a:ext cx="1033200" cy="673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248520" y="2286000"/>
                    <a:ext cx="103320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5537160" y="1752480"/>
          <a:ext cx="881280" cy="612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537160" y="1752480"/>
                    <a:ext cx="88128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5638680" y="2362320"/>
            <a:ext cx="259092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5867280" y="2362320"/>
          <a:ext cx="515880" cy="620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867280" y="2362320"/>
                    <a:ext cx="51588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609480" y="3276720"/>
                <a:ext cx="3505320" cy="74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36" name=""/>
          <p:cNvGraphicFramePr/>
          <p:nvPr/>
        </p:nvGraphicFramePr>
        <p:xfrm>
          <a:off x="3025800" y="3962520"/>
          <a:ext cx="828720" cy="6127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025800" y="3962520"/>
                    <a:ext cx="8287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1676520" y="4648320"/>
          <a:ext cx="1030320" cy="5191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676520" y="4648320"/>
                    <a:ext cx="103032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838080" y="3962520"/>
          <a:ext cx="828720" cy="6127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838080" y="3962520"/>
                    <a:ext cx="8287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1092240" y="4572000"/>
            <a:ext cx="289548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990720" y="4572000"/>
          <a:ext cx="774720" cy="6206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990720" y="4572000"/>
                    <a:ext cx="7747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0" y="609480"/>
            <a:ext cx="9144000" cy="976320"/>
            <a:chOff x="0" y="609480"/>
            <a:chExt cx="9144000" cy="976320"/>
          </a:xfrm>
        </p:grpSpPr>
        <p:sp>
          <p:nvSpPr>
            <p:cNvPr id="147" name=""/>
            <p:cNvSpPr/>
            <p:nvPr/>
          </p:nvSpPr>
          <p:spPr>
            <a:xfrm>
              <a:off x="0" y="6094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Modeling a Real-Life Proble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4920" y="1066680"/>
              <a:ext cx="8839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49" name=""/>
          <p:cNvGraphicFramePr/>
          <p:nvPr/>
        </p:nvGraphicFramePr>
        <p:xfrm>
          <a:off x="2895480" y="4114800"/>
          <a:ext cx="549360" cy="64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4114800"/>
                    <a:ext cx="54936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0" y="1143000"/>
            <a:ext cx="7315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10. After a sale, the price of a stereo was marked up $35 to a regular price of $310. What was the sale pri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352680" y="3200400"/>
          <a:ext cx="654120" cy="65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3200400"/>
                    <a:ext cx="65412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0" y="2971800"/>
            <a:ext cx="152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Verbal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23880" y="3200400"/>
            <a:ext cx="1828800" cy="56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Sale Pr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2520" y="3200400"/>
            <a:ext cx="17524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Mark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5715000" y="3351240"/>
          <a:ext cx="609480" cy="49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3351240"/>
                    <a:ext cx="60948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6248520" y="3200400"/>
            <a:ext cx="259056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Regular pr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394080" y="4038480"/>
          <a:ext cx="1441440" cy="663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94080" y="4038480"/>
                    <a:ext cx="1441440" cy="6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1828800" y="59436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The sale price was $275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743200" y="2362320"/>
          <a:ext cx="3594240" cy="799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43200" y="2362320"/>
                    <a:ext cx="359424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4952880" y="4038480"/>
          <a:ext cx="1940040" cy="663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952880" y="4038480"/>
                    <a:ext cx="1940040" cy="6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3581280" y="4648320"/>
          <a:ext cx="1244880" cy="669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581280" y="4648320"/>
                    <a:ext cx="124488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4952880" y="5257800"/>
          <a:ext cx="1979640" cy="682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952880" y="5257800"/>
                    <a:ext cx="197964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5410080" y="4648320"/>
          <a:ext cx="1447920" cy="6588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410080" y="4648320"/>
                    <a:ext cx="144792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3276720" y="5257800"/>
            <a:ext cx="358128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267080" y="5334120"/>
          <a:ext cx="642960" cy="7617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267080" y="5334120"/>
                    <a:ext cx="6429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6" name="" descr=""/>
          <p:cNvPicPr/>
          <p:nvPr/>
        </p:nvPicPr>
        <p:blipFill>
          <a:blip r:embed="rId21"/>
          <a:stretch/>
        </p:blipFill>
        <p:spPr>
          <a:xfrm>
            <a:off x="6858000" y="152280"/>
            <a:ext cx="185112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5T23:09:27Z</dcterms:created>
  <dc:creator>Don Helms</dc:creator>
  <dc:description/>
  <dc:language>en-US</dc:language>
  <cp:lastModifiedBy>DAMON SKELTON</cp:lastModifiedBy>
  <dcterms:modified xsi:type="dcterms:W3CDTF">2004-09-07T20:20:10Z</dcterms:modified>
  <cp:revision>120</cp:revision>
  <dc:subject/>
  <dc:title>No Slide Title</dc:title>
</cp:coreProperties>
</file>